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59F-5BAC-4093-8F2E-02EE02D5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C8A-5521-45CD-B332-D9C00AB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147-E526-4453-8CD9-35329D76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02C-D716-41A2-BE54-470D7F5A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A7A-AEDE-462B-BB32-F46C4D68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DE8-DC98-4B00-8CC3-4249D775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C17-2E98-43FE-AFD2-21308128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EA8-FB1A-49D9-AA94-89DEB643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9DE-8269-4AEF-A997-4AA0E512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EA8-F21E-4637-8C2C-0B8B3A2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824-F1A3-4012-80EC-7544AEC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40B-D3C0-4239-BA38-AA50518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811-1329-4C37-9741-339091F70F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REPUBLICAN EXPERIMENT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hapter 6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stern Land: 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ey to the First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gained ownership of all land west of Appalac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Ordinance, 17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derly division of land into sections and townsh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ection set aside to finance school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 to sell for minimum of $1 gold per ac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Ordinance, 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three to five new territories in North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of 5,000 may elect Assemb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tion of 60,000 may petition for stateh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ill of Rights provi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very outlaw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8" descr="DIVI119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42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IVI7233117"/>
          <p:cNvPicPr/>
          <p:nvPr/>
        </p:nvPicPr>
        <p:blipFill>
          <a:blip r:embed="rId3"/>
          <a:stretch/>
        </p:blipFill>
        <p:spPr>
          <a:xfrm>
            <a:off x="2057400" y="1371600"/>
            <a:ext cx="50436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Nationalist Critiqu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egin to believe a stronger central government would restore economic, political and social disorder (Shay’s Rebe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ation of trade with Britain caused trade deficit and hard currency shor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unable to address issues (example no power to t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failed to get states to collect debts owed British 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taliation, British refused to evacuate Ohio River Val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 (shutting down Mississippi 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606"/>
                </a:solidFill>
                <a:latin typeface="Arial"/>
              </a:rPr>
              <a:t>The Philadelphia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Convened May 178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Fifty-five delegates from all states except Rhode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Were to only revise Articles but instead revamped the whole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Vote by state, needed only a majority instead of nin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Content Placeholder 3" descr="DSC01383.jpg"/>
          <p:cNvPicPr/>
          <p:nvPr/>
        </p:nvPicPr>
        <p:blipFill>
          <a:blip r:embed="rId2"/>
          <a:srcRect l="-18181" t="0" r="-18181" b="0"/>
          <a:stretch/>
        </p:blipFill>
        <p:spPr>
          <a:xfrm>
            <a:off x="-262080" y="1219320"/>
            <a:ext cx="969984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itical Perio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gini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meral legislature of state represent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house elected, the other appo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states would have more representativ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Jersey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would have one vote in a unicameral legis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ticles of Confederation otherwise untouch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e Saves the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given two delegates in the Senate—a victory for the small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of Representatives based on population—a victory for the larg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oney bills must originate in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-fifths of the slave population counted toward representation in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IVI7233TB601"/>
          <p:cNvPicPr/>
          <p:nvPr/>
        </p:nvPicPr>
        <p:blipFill>
          <a:blip r:embed="rId2"/>
          <a:srcRect l="0" t="0" r="0" b="1380"/>
          <a:stretch/>
        </p:blipFill>
        <p:spPr>
          <a:xfrm>
            <a:off x="68580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Last Detai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s t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 selects president, veto over legislation, and executive may appoint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that Bill of Rights unnecessary at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en amendments added by December 1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 was to protect individu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Point of 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deral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a strong central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Federalist 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-Federal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d to the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usted any government removed from direct control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pected the new Constitution favored the rich and powerf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tification of the Constit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Picture 4" descr="DIVI7233124"/>
          <p:cNvPicPr/>
          <p:nvPr/>
        </p:nvPicPr>
        <p:blipFill>
          <a:blip r:embed="rId2"/>
          <a:stretch/>
        </p:blipFill>
        <p:spPr>
          <a:xfrm>
            <a:off x="990720" y="1447920"/>
            <a:ext cx="714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rain Sc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in America lose close to 300 billion a year because of this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ving the closed sig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spend 2 years of your life waiting for this to happen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ing for the food you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women can do this for only 47 hours?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sec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uestion to think about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52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here the words “Founding Fathers” what comes to m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ng Republican Cultur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ism—new core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promising commitment to liberty and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vernment without a monarchy and aristoc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Revolutionary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individual liberty with soci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property rights with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at’s Weir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0 years ago, most Egyptians were considered old and died by the age of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arly Rome, a father could legally execute any member of his house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owner of the Marlboro cigarette company died of lung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last 3,500 years, it is estimated that the world has had a grand total of 230 years in which no wars took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cial and Political Re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2174760"/>
            <a:ext cx="4268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litionist sentiment spread in wake of the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1800, slavery legally dying in No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erners debated abolition but economic motives (Cotton gin) overcame republican ide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demanded the natural right of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tured proper values through “Republican Motherhood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men more assertive in divorce, economic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ical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 introduced unintended changes into America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y qualifications for voting redu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itals moved to enable better representation for frontier sett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church an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tates: Experiments in Republica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state constitutions served as experiments in republican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s from state experiences later applied to constructing cent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nstitutions guaranteed natur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religion, speech, press, private property, et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ed state legislatures given most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onstitutions were written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rain Sc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will let mom buy this for them until they are 19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dies, if you have one of these it adds about 7 hours of extra house work for you on a daily basis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ll times you are only 6 feet away from one of these.  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765440"/>
            <a:ext cx="83055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606"/>
                </a:solidFill>
                <a:latin typeface="Arial"/>
              </a:rPr>
              <a:t>Articles of Confederation severely limited central government’s authority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Each state had one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tax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Amendments required unani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In charge of foreign and Native American relations, military, and disputes between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06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606"/>
                </a:solidFill>
                <a:latin typeface="Arial"/>
              </a:rPr>
              <a:t>No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3:54:38Z</dcterms:created>
  <dc:creator/>
  <dc:description/>
  <dc:language>en-US</dc:language>
  <cp:lastModifiedBy>Buffalo Grive High School</cp:lastModifiedBy>
  <dcterms:modified xsi:type="dcterms:W3CDTF">2012-09-24T01:31:22Z</dcterms:modified>
  <cp:revision>24</cp:revision>
  <dc:subject/>
  <dc:title>Chapter 6 THE REPUBLICAN EXPERIMENT A New Political Morality</dc:title>
</cp:coreProperties>
</file>